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475-5882-470B-97CB-52D23A39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DAA7-A520-4EBD-87F1-5061198E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A2D-09F0-4656-83BF-A79A88AE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336-6441-4AA5-9366-9C2F4336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8335-2A81-468A-934A-6244FF12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2E81-326D-49EB-9639-F0A7C3BD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6C9C-E646-499C-BCF1-BA31E4F4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6D2E-FE66-473A-A3CF-707F77D0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2D28-36CB-4A3E-9BBF-63093F81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F0EA-6D0E-4443-8ADB-F41DE60C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1F49-86A2-4859-BD09-CA1C2F8C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D78-6C41-4CF9-9D7D-F15C5D64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2B17-4A6C-4F15-BD5D-DDD7E885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45CB-A1A1-450D-BB56-6B6839A0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EF94-526E-4655-8579-E8B010A9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5455-1E7F-4808-8536-27D301F8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D827-A57A-46DF-A15F-876C0AA5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F59-5133-4F4B-91CB-DF52EF9A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5CB-8060-48DD-B3BD-80FCB388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91C-CEDC-401D-9280-ADFFE57A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7BA-8CBD-44A5-9758-32651B49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3AC-F64B-443B-88C6-CEE8C449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345-12C2-4ED4-9E8E-33A21E99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F96-A580-423D-AD4B-D3C77FDC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1753-BAF4-4539-83AA-86FDD6BAE9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F14A-F3B3-4496-85D0-84C8E0B6B6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5791320" cy="198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ff33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sebleed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09120" y="3505320"/>
            <a:ext cx="57913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ebleeds are usually not seri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9480" y="457200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can they be cause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can be caused by an inju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sebleeds can also be caused by being in a very dry place for too l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can be caused by a co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2133360" cy="1419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153280" y="54864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368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4520" y="122400"/>
            <a:ext cx="70261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o stop a nosebleed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osebleed victim should sit dow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n slightly forwar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w his or her head l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firmly pinch the nose for about 5 minu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bleeding doesn’t stop, get medical hel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3152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6:59Z</dcterms:created>
  <dc:creator>Kraybill Campus LMS</dc:creator>
  <dc:description/>
  <dc:language>en-US</dc:language>
  <cp:lastModifiedBy>Kraybill Campus LMS</cp:lastModifiedBy>
  <dcterms:modified xsi:type="dcterms:W3CDTF">2011-05-23T13:09:32Z</dcterms:modified>
  <cp:revision>4</cp:revision>
  <dc:subject/>
  <dc:title>Nosebleeds</dc:title>
</cp:coreProperties>
</file>